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D67F-5C0D-44F4-B1FC-62E5BC2AE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C4E0-43BE-4FD9-9FAB-2D19D4BF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069-5F71-4C76-B7DA-33D8AD950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31B-34DE-4637-88B4-B33225EE3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BDA9-C237-431C-AD27-B8C026ED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D97-C490-4EA1-87C7-09F7E4C3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963C-F335-4DFB-A274-1DA33A51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C27B-A7A4-4C79-A412-53AFFC8E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C1DF-C104-4FCF-A238-F8437FE9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DC0-879A-47CF-8389-52AAACBB1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EF73-36F0-45D7-86AE-6360C365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E839-C264-4507-A412-D813CF1D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7F92-2F8D-4D36-A394-9833046C0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FFAA-B889-427A-9786-F6CC0468E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B0F4-E3B4-4926-A90F-55D2B6EF8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D8AB-F43B-4DE8-8471-C813A549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5925-1682-47B8-A90E-159BD48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CEED6-64D8-40CA-A7C0-EB7EE1BB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D888-4DA8-42A5-BFDF-ED9A556D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7C1B-7397-4EF6-AAED-5C4A4D89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B795-B838-48A8-98CC-755AE5D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2C45-BA72-4D36-A37D-DF51F74F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C4C-12BC-4F86-AD49-0440D70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CDF5-F937-4AC3-BDCD-852FB7F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1485-E1C7-4C32-B12B-F7431BA0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BD7A-0D0F-4244-8D17-B8F903E1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D408-E256-4490-B360-45B35447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3D7E-2605-4E71-BC60-926119CA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6D28-F92A-4D33-8520-1252713E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1A3-16AA-415A-8EBE-DDD854FF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111B-13F0-4439-BA8A-6D79455F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574E-0D50-4C6E-8394-460F36DD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3C15A-80EF-401E-8A97-8DCAC3B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10BA-564C-4B15-A406-01FA0D54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8846-218C-42B0-AB0B-0F41BF28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33FA-F486-4EE3-9B7B-B80887A3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CCF0-A0E3-4DF7-893B-C49E7D8B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E700-D767-46FC-8B48-DC259FD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8320-01A3-4D34-8727-37456B2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DB90-C2F3-49D7-BE74-A38E17AC6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2F5-92C2-4201-9068-CF4387B607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.02E Adding Sounds int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puter Animations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666880" y="4572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Importing Sound Fi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7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iles are usually imported into the animation much like image fi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7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imation programs require or recommend that each sound object be inserted on its own lay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sound"/>
          <p:cNvPicPr/>
          <p:nvPr/>
        </p:nvPicPr>
        <p:blipFill>
          <a:blip r:embed="rId1"/>
          <a:stretch/>
        </p:blipFill>
        <p:spPr>
          <a:xfrm>
            <a:off x="6477120" y="327672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57200" y="609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Importing Sound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nimation is for a Web site, keep the overall file size small for faster downloads by using more compact MP3 files and looping a shorter sound seg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ther hand, if the animation is part of a presentation delivered in an auditorium equipped with a high-quality audio system, use the highest quality sound fil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reating or choosing the sounds to include in the animation, keep the intended purpose of the animation in m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auditorium"/>
          <p:cNvPicPr/>
          <p:nvPr/>
        </p:nvPicPr>
        <p:blipFill>
          <a:blip r:embed="rId1"/>
          <a:stretch/>
        </p:blipFill>
        <p:spPr>
          <a:xfrm>
            <a:off x="5029200" y="1905120"/>
            <a:ext cx="3754440" cy="46479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212760" y="417600"/>
            <a:ext cx="588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04920" y="1219320"/>
            <a:ext cx="449568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2860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Guidelines for Using S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 order to avoid a violation of copyright law, only original music can be used in professional productions such as Web animations and presenta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there is a large number of inexpensive programs that combine sound loops to create original, royalty-free music for animations and mov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1677240" y="685800"/>
            <a:ext cx="22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99"/>
                </a:solidFill>
                <a:latin typeface="Arial"/>
              </a:rPr>
              <a:t>Copyr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Sounds into Computer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ound f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ing s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Sound in 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iles can be used to enhance an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c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ound unless it enhances the animation. If the sound is distracting and irrelevant to the animation, do not us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ound File Forma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 File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imation and video programs enable sound files to be imported in at least two forma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files have the highest quality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WAV (Wave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format for sound on computers running the Windows operat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 files produce high-quality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large file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avFileView"/>
          <p:cNvPicPr/>
          <p:nvPr/>
        </p:nvPicPr>
        <p:blipFill>
          <a:blip r:embed="rId1"/>
          <a:stretch/>
        </p:blipFill>
        <p:spPr>
          <a:xfrm>
            <a:off x="5486400" y="4191120"/>
            <a:ext cx="264780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495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andard format for music files sent over the Internet that compresses music or other types of au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ression process removes sounds that humans cannot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ost listeners, MP3 files sound as good as WAV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AKTHHW7"/>
          <p:cNvPicPr/>
          <p:nvPr/>
        </p:nvPicPr>
        <p:blipFill>
          <a:blip r:embed="rId1"/>
          <a:stretch/>
        </p:blipFill>
        <p:spPr>
          <a:xfrm>
            <a:off x="5181480" y="289548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AGDU7O5"/>
          <p:cNvPicPr/>
          <p:nvPr/>
        </p:nvPicPr>
        <p:blipFill>
          <a:blip r:embed="rId2"/>
          <a:stretch/>
        </p:blipFill>
        <p:spPr>
          <a:xfrm>
            <a:off x="5943600" y="1143000"/>
            <a:ext cx="2362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Recording Sound Fi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Recording Sound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can be recorded or captured from a variety of 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record your voice using a microphone that is connected to the computer’s sound c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connect a device such as a CD player, MP3 player, or tape player to the sound card Line-in jack to record CD audio or other pre-recorded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tion software allows you to record narration without having to create the sound in a separat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Recording Sound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cording, be aware that sound files tend to be l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ound files will increase the size of the finished animation which means the animation will take longer to download and require more storage sp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ound files as small as possible while maintaining sufficient quality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 WAV files at a lower quality setting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cording or conversion software that will save the sound file in a compressed format such as MP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46:52Z</dcterms:created>
  <dc:creator>tcunning</dc:creator>
  <dc:description/>
  <dc:language>en-US</dc:language>
  <cp:lastModifiedBy>Preferred User</cp:lastModifiedBy>
  <dcterms:modified xsi:type="dcterms:W3CDTF">2011-04-21T00:11:53Z</dcterms:modified>
  <cp:revision>45</cp:revision>
  <dc:subject/>
  <dc:title>4.Record a sound file</dc:title>
</cp:coreProperties>
</file>